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6BA-7AC2-4CAB-B2DE-F70C7CF5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2BC-6F8A-4022-8DEC-28113B55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5EF-CE0D-4136-A8A2-C196F59D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350-C7F0-4C0B-B157-B44650A0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074E-250D-41E3-AC00-6D5841BC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B381-AD6E-497D-9F09-2970797B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21E1-3DFB-43E8-AC23-F4BF123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0349-1491-4325-9C06-A03A79D2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6CB8-6913-4FBC-B4ED-9720A81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F6FF-AAEB-464F-B662-DAED1E98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E4F7-4F00-47BE-9F65-B86CD6BA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D3B-E2DB-46B4-BFF3-3F08EFAC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9A1B-B00D-48D3-BC1F-C08AD44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5B8F-F738-46F2-BB54-692CCA6D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5F47-22ED-4192-B04F-6AFC6902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5624-D7A7-473F-8C0A-CCBD03D1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10F-B51D-4080-99FF-E5B16273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773-B3FC-4BE3-B496-4C506471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CAA-549E-47A5-B8CA-6039539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5EA-F091-4794-BCD6-553BAACF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4BA-F7AE-4CB5-BB36-43EA268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801-0D3B-4B7A-9850-FDD36779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4FD-580F-42FB-A4BB-87154755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4E8-430B-4CEC-8D27-D07D9C9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CD5C-78A1-4070-876B-A3E1DD0B070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99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189C-72CB-4EF8-B808-FCDD0F6D26B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2133720" y="2819520"/>
            <a:ext cx="44956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的应用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533520" y="838080"/>
            <a:ext cx="4248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609480" y="152280"/>
            <a:ext cx="1447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起探究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838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体的密度是指单位体积内气体的质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测定容积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密闭容器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种气体的密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4kg/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86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用这种气体的体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其密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kg/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2835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把这些气体装入容积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.04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钢瓶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的密度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多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04920" y="4648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使气体的密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ρ =2kg/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要把这些气体装入容积是多少立方米的容器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362320" y="1963800"/>
                <a:ext cx="1066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2743200" y="3581280"/>
                <a:ext cx="2286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Group 9"/>
          <p:cNvGrpSpPr/>
          <p:nvPr/>
        </p:nvGrpSpPr>
        <p:grpSpPr>
          <a:xfrm>
            <a:off x="1905120" y="5486400"/>
            <a:ext cx="7238880" cy="623880"/>
            <a:chOff x="1905120" y="5486400"/>
            <a:chExt cx="7238880" cy="623880"/>
          </a:xfrm>
        </p:grpSpPr>
        <p:sp>
          <p:nvSpPr>
            <p:cNvPr id="162" name="Text Box 10"/>
            <p:cNvSpPr/>
            <p:nvPr/>
          </p:nvSpPr>
          <p:spPr>
            <a:xfrm>
              <a:off x="1905120" y="556272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当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ρ =2kg/m</a:t>
              </a:r>
              <a:r>
                <a:rPr b="1" lang="zh-CN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时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,          ,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解得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=3.5(m</a:t>
              </a:r>
              <a:r>
                <a:rPr b="1" lang="zh-CN" sz="2400" spc="-1" strike="noStrike" baseline="30000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11"/>
                <p:cNvSpPr txBox="1"/>
                <p:nvPr/>
              </p:nvSpPr>
              <p:spPr>
                <a:xfrm>
                  <a:off x="4496040" y="5486400"/>
                  <a:ext cx="64440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04920" y="53352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下图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这个函数的图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根据图回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些气体的体积增大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的密度将怎样变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把这些气体装入容积不超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容器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体的密度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什么范围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08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由图看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气体的体积增大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它的密度将减小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34290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把这些气体装入容积不超过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m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容器中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气体的密度</a:t>
            </a:r>
            <a:r>
              <a:rPr b="1" lang="el-GR" sz="2400" spc="-1" strike="noStrike">
                <a:solidFill>
                  <a:srgbClr val="ff0000"/>
                </a:solidFill>
                <a:latin typeface="宋体"/>
              </a:rPr>
              <a:t>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≥7kg/m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5486400" y="3048120"/>
            <a:ext cx="3367080" cy="3398400"/>
            <a:chOff x="5486400" y="3048120"/>
            <a:chExt cx="3367080" cy="3398400"/>
          </a:xfrm>
        </p:grpSpPr>
        <p:sp>
          <p:nvSpPr>
            <p:cNvPr id="168" name="Line 6"/>
            <p:cNvSpPr/>
            <p:nvPr/>
          </p:nvSpPr>
          <p:spPr>
            <a:xfrm flipV="1">
              <a:off x="5853240" y="3276000"/>
              <a:ext cx="0" cy="28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5805360" y="45018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>
              <a:off x="5805360" y="40924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5805360" y="429696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>
              <a:off x="5805360" y="38876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>
              <a:off x="5805360" y="36828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5805360" y="347796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5805360" y="49114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5805360" y="51163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5805360" y="59371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5805360" y="53226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5805360" y="55274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5805360" y="57322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5360" y="3048120"/>
              <a:ext cx="4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宋体"/>
                </a:rPr>
                <a:t>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5532480" y="472428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21"/>
            <p:cNvSpPr/>
            <p:nvPr/>
          </p:nvSpPr>
          <p:spPr>
            <a:xfrm>
              <a:off x="5865840" y="6149880"/>
              <a:ext cx="26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22"/>
            <p:cNvSpPr/>
            <p:nvPr/>
          </p:nvSpPr>
          <p:spPr>
            <a:xfrm>
              <a:off x="734364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23"/>
            <p:cNvSpPr/>
            <p:nvPr/>
          </p:nvSpPr>
          <p:spPr>
            <a:xfrm>
              <a:off x="773280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24"/>
            <p:cNvSpPr/>
            <p:nvPr/>
          </p:nvSpPr>
          <p:spPr>
            <a:xfrm>
              <a:off x="792648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25"/>
            <p:cNvSpPr/>
            <p:nvPr/>
          </p:nvSpPr>
          <p:spPr>
            <a:xfrm>
              <a:off x="812160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>
              <a:off x="831528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27"/>
            <p:cNvSpPr/>
            <p:nvPr/>
          </p:nvSpPr>
          <p:spPr>
            <a:xfrm>
              <a:off x="695484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28"/>
            <p:cNvSpPr/>
            <p:nvPr/>
          </p:nvSpPr>
          <p:spPr>
            <a:xfrm>
              <a:off x="675972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29"/>
            <p:cNvSpPr/>
            <p:nvPr/>
          </p:nvSpPr>
          <p:spPr>
            <a:xfrm>
              <a:off x="656604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30"/>
            <p:cNvSpPr/>
            <p:nvPr/>
          </p:nvSpPr>
          <p:spPr>
            <a:xfrm>
              <a:off x="637056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>
              <a:off x="617688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32"/>
            <p:cNvSpPr/>
            <p:nvPr/>
          </p:nvSpPr>
          <p:spPr>
            <a:xfrm>
              <a:off x="7537320" y="61131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33"/>
            <p:cNvSpPr/>
            <p:nvPr/>
          </p:nvSpPr>
          <p:spPr>
            <a:xfrm>
              <a:off x="5981760" y="610992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8426520" y="6078240"/>
              <a:ext cx="42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35"/>
            <p:cNvSpPr/>
            <p:nvPr/>
          </p:nvSpPr>
          <p:spPr>
            <a:xfrm>
              <a:off x="5562720" y="6095880"/>
              <a:ext cx="42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Text Box 36"/>
            <p:cNvSpPr/>
            <p:nvPr/>
          </p:nvSpPr>
          <p:spPr>
            <a:xfrm>
              <a:off x="6049800" y="6095880"/>
              <a:ext cx="42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Text Box 37"/>
            <p:cNvSpPr/>
            <p:nvPr/>
          </p:nvSpPr>
          <p:spPr>
            <a:xfrm>
              <a:off x="6431040" y="6095880"/>
              <a:ext cx="42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Text Box 38"/>
            <p:cNvSpPr/>
            <p:nvPr/>
          </p:nvSpPr>
          <p:spPr>
            <a:xfrm>
              <a:off x="7543800" y="609588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39"/>
            <p:cNvSpPr/>
            <p:nvPr/>
          </p:nvSpPr>
          <p:spPr>
            <a:xfrm>
              <a:off x="7192800" y="6095880"/>
              <a:ext cx="42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6811920" y="6095880"/>
              <a:ext cx="42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Text Box 41"/>
            <p:cNvSpPr/>
            <p:nvPr/>
          </p:nvSpPr>
          <p:spPr>
            <a:xfrm>
              <a:off x="5486400" y="388584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42"/>
            <p:cNvSpPr/>
            <p:nvPr/>
          </p:nvSpPr>
          <p:spPr>
            <a:xfrm>
              <a:off x="5486400" y="3504960"/>
              <a:ext cx="4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43"/>
            <p:cNvSpPr/>
            <p:nvPr/>
          </p:nvSpPr>
          <p:spPr>
            <a:xfrm>
              <a:off x="5516640" y="4343040"/>
              <a:ext cx="42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44"/>
            <p:cNvSpPr/>
            <p:nvPr/>
          </p:nvSpPr>
          <p:spPr>
            <a:xfrm>
              <a:off x="5516640" y="5181480"/>
              <a:ext cx="42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45"/>
            <p:cNvSpPr/>
            <p:nvPr/>
          </p:nvSpPr>
          <p:spPr>
            <a:xfrm>
              <a:off x="5516640" y="5562360"/>
              <a:ext cx="42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46"/>
            <p:cNvSpPr/>
            <p:nvPr/>
          </p:nvSpPr>
          <p:spPr>
            <a:xfrm flipV="1">
              <a:off x="7162920" y="6120720"/>
              <a:ext cx="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Text Box 47"/>
            <p:cNvSpPr/>
            <p:nvPr/>
          </p:nvSpPr>
          <p:spPr>
            <a:xfrm>
              <a:off x="7956720" y="6095880"/>
              <a:ext cx="42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 flipH="1">
              <a:off x="576576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未知"/>
          <p:cNvSpPr/>
          <p:nvPr/>
        </p:nvSpPr>
        <p:spPr>
          <a:xfrm>
            <a:off x="5943600" y="3581280"/>
            <a:ext cx="2286000" cy="243864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0"/>
                </a:moveTo>
                <a:cubicBezTo>
                  <a:pt x="0" y="472"/>
                  <a:pt x="0" y="944"/>
                  <a:pt x="240" y="1200"/>
                </a:cubicBezTo>
                <a:cubicBezTo>
                  <a:pt x="480" y="1456"/>
                  <a:pt x="960" y="1496"/>
                  <a:pt x="1440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WordArt 50"/>
          <p:cNvSpPr txBox="1"/>
          <p:nvPr/>
        </p:nvSpPr>
        <p:spPr>
          <a:xfrm>
            <a:off x="609480" y="4419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谈谈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3" name="Text Box 51"/>
          <p:cNvSpPr/>
          <p:nvPr/>
        </p:nvSpPr>
        <p:spPr>
          <a:xfrm>
            <a:off x="19051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体的密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体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图象为什么只有一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533520" y="10666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电路中的电压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20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用电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电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电烙铁的电阻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76Ω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接入电路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它的电流是多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家用电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通过它的电流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.6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才能正常工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件家用电器的电阻是多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电路中有一滑动变阻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怎样调整电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R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才能使电路中的电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457200" y="3808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7162920" y="1371600"/>
                <a:ext cx="1033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464832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电阻减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4572000" y="3581280"/>
                <a:ext cx="2819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2971800" y="274320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04920" y="914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块重约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物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放在地面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用这块物体的受力面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它对地面的压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a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这个函数的图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这个物体是长方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4cm,12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不同的放置方式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物体对地面的压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609480" y="304920"/>
            <a:ext cx="1067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4648320" y="1511280"/>
            <a:ext cx="2819160" cy="3088440"/>
            <a:chOff x="4648320" y="1511280"/>
            <a:chExt cx="2819160" cy="3088440"/>
          </a:xfrm>
        </p:grpSpPr>
        <p:sp>
          <p:nvSpPr>
            <p:cNvPr id="223" name="Line 5"/>
            <p:cNvSpPr/>
            <p:nvPr/>
          </p:nvSpPr>
          <p:spPr>
            <a:xfrm flipV="1">
              <a:off x="4955400" y="1716120"/>
              <a:ext cx="0" cy="25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>
              <a:off x="4915080" y="281628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>
              <a:off x="4915080" y="244872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4915080" y="263232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4915080" y="226512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4915080" y="208116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4915080" y="189720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4915080" y="318384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4915080" y="336780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4915080" y="410472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4915080" y="355320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915080" y="373680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4915080" y="3920760"/>
              <a:ext cx="3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4915080" y="1511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Text Box 19"/>
            <p:cNvSpPr/>
            <p:nvPr/>
          </p:nvSpPr>
          <p:spPr>
            <a:xfrm>
              <a:off x="4686840" y="301608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>
              <a:off x="4965840" y="4295520"/>
              <a:ext cx="22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620316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652896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>
              <a:off x="669132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685440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5"/>
            <p:cNvSpPr/>
            <p:nvPr/>
          </p:nvSpPr>
          <p:spPr>
            <a:xfrm>
              <a:off x="701676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587772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>
              <a:off x="571428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555228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Line 29"/>
            <p:cNvSpPr/>
            <p:nvPr/>
          </p:nvSpPr>
          <p:spPr>
            <a:xfrm>
              <a:off x="538848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30"/>
            <p:cNvSpPr/>
            <p:nvPr/>
          </p:nvSpPr>
          <p:spPr>
            <a:xfrm>
              <a:off x="522612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>
              <a:off x="6365520" y="426276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063040" y="4259880"/>
              <a:ext cx="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Text Box 33"/>
            <p:cNvSpPr/>
            <p:nvPr/>
          </p:nvSpPr>
          <p:spPr>
            <a:xfrm>
              <a:off x="7110000" y="423144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34"/>
            <p:cNvSpPr/>
            <p:nvPr/>
          </p:nvSpPr>
          <p:spPr>
            <a:xfrm>
              <a:off x="4712040" y="42472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Text Box 35"/>
            <p:cNvSpPr/>
            <p:nvPr/>
          </p:nvSpPr>
          <p:spPr>
            <a:xfrm>
              <a:off x="5119920" y="42472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Text Box 36"/>
            <p:cNvSpPr/>
            <p:nvPr/>
          </p:nvSpPr>
          <p:spPr>
            <a:xfrm>
              <a:off x="5439240" y="424728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Text Box 37"/>
            <p:cNvSpPr/>
            <p:nvPr/>
          </p:nvSpPr>
          <p:spPr>
            <a:xfrm>
              <a:off x="6370920" y="42472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Text Box 38"/>
            <p:cNvSpPr/>
            <p:nvPr/>
          </p:nvSpPr>
          <p:spPr>
            <a:xfrm>
              <a:off x="6076800" y="424728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 Box 39"/>
            <p:cNvSpPr/>
            <p:nvPr/>
          </p:nvSpPr>
          <p:spPr>
            <a:xfrm>
              <a:off x="5757840" y="4247280"/>
              <a:ext cx="35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Text Box 40"/>
            <p:cNvSpPr/>
            <p:nvPr/>
          </p:nvSpPr>
          <p:spPr>
            <a:xfrm>
              <a:off x="4648320" y="22633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Text Box 41"/>
            <p:cNvSpPr/>
            <p:nvPr/>
          </p:nvSpPr>
          <p:spPr>
            <a:xfrm>
              <a:off x="4648320" y="192024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4673520" y="267372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4673520" y="342648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44"/>
            <p:cNvSpPr/>
            <p:nvPr/>
          </p:nvSpPr>
          <p:spPr>
            <a:xfrm>
              <a:off x="4673520" y="376812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V="1">
              <a:off x="6051960" y="4269600"/>
              <a:ext cx="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Text Box 46"/>
            <p:cNvSpPr/>
            <p:nvPr/>
          </p:nvSpPr>
          <p:spPr>
            <a:xfrm>
              <a:off x="6716520" y="42472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Line 47"/>
            <p:cNvSpPr/>
            <p:nvPr/>
          </p:nvSpPr>
          <p:spPr>
            <a:xfrm flipH="1">
              <a:off x="4881600" y="3016080"/>
              <a:ext cx="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48"/>
              <p:cNvSpPr txBox="1"/>
              <p:nvPr/>
            </p:nvSpPr>
            <p:spPr>
              <a:xfrm>
                <a:off x="3200400" y="1676520"/>
                <a:ext cx="914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49"/>
              <p:cNvSpPr txBox="1"/>
              <p:nvPr/>
            </p:nvSpPr>
            <p:spPr>
              <a:xfrm>
                <a:off x="6248520" y="5181480"/>
                <a:ext cx="2819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8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未知"/>
          <p:cNvSpPr/>
          <p:nvPr/>
        </p:nvSpPr>
        <p:spPr>
          <a:xfrm>
            <a:off x="5181480" y="1905120"/>
            <a:ext cx="1981440" cy="220968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0" y="0"/>
                </a:moveTo>
                <a:cubicBezTo>
                  <a:pt x="16" y="388"/>
                  <a:pt x="32" y="776"/>
                  <a:pt x="240" y="1008"/>
                </a:cubicBezTo>
                <a:cubicBezTo>
                  <a:pt x="448" y="1240"/>
                  <a:pt x="1080" y="1328"/>
                  <a:pt x="1248" y="1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457200" y="46483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当把长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4c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2c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矩形面放在地面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压强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1143000" y="5334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当把长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4c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矩形面放在地面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压强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1295280" y="60199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当把长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2c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矩形面放在地面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压强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54"/>
              <p:cNvSpPr txBox="1"/>
              <p:nvPr/>
            </p:nvSpPr>
            <p:spPr>
              <a:xfrm>
                <a:off x="5943600" y="4495680"/>
                <a:ext cx="2971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4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5"/>
              <p:cNvSpPr txBox="1"/>
              <p:nvPr/>
            </p:nvSpPr>
            <p:spPr>
              <a:xfrm>
                <a:off x="6315120" y="5867280"/>
                <a:ext cx="2752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167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5:59:33Z</dcterms:created>
  <dc:creator> </dc:creator>
  <dc:description> </dc:description>
  <cp:keywords/>
  <dc:language>en-US</dc:language>
  <cp:lastModifiedBy>数字数学03</cp:lastModifiedBy>
  <dcterms:modified xsi:type="dcterms:W3CDTF">2014-10-14T07:54:52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Version">
    <vt:r8>1</vt:r8>
  </property>
</Properties>
</file>